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EAA-F076-4530-8565-FC5C09FC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CC55-51DE-4702-95EF-8F1FE167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F3654-0D6E-428E-A748-2BC4A725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3DAAA-2E19-48EA-ADFF-354ECEBA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B4D60-5EA0-4BE4-AA9A-74E94DAA5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29C36-A1AE-4DA5-BB92-587403B9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14320-E300-4EA4-87F2-A0E46850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AC4E0-C323-4BAD-A4EA-3411F6F3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63ED9-0DAF-4BF6-8B27-35E7ABCF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52B69-6FDC-49F8-B3D6-9F63DF5D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C39B2-3B2F-493F-8164-797957C7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9E5308-757C-4543-B492-07FE5EEF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94F-3A5C-48CA-8DD2-BD6E2D66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870487-5F3D-46F6-96D5-BA924BAA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588D3-308A-48A7-B215-0114BC5E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EAA6C-0D72-4C11-9F1D-873AB9E5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D80F6-F447-447E-942C-A16B86AB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9A002-B845-4208-870E-02ABE6A5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F3ECAF-908A-44EC-8DB7-2F195054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9ADA0-D968-446B-B683-6071ACA9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DD790-C1AB-43C5-8560-C94557B0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CD1373-7F44-4CFA-828B-35A4D845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CDEEF-A5CA-4881-AD5B-3E42C630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A1BF-4A28-4F67-95F9-C3EF6479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48C2A-D49A-4841-B730-AE548538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6881-FB13-461E-925F-DBB27309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EEBB5-495D-4E78-AB5F-32168AE9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F684-3ACA-445B-A270-47BC512E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F546-EBD2-4B90-9AD4-B422F09D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7B6B-7002-4B06-B150-048C78BE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1CB5-A5A3-47AF-A642-9560542A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2567-1EB4-49DB-B212-CF01FBFA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F3C9-B06A-4988-BB9E-7921FC98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18BD-8606-4758-BECB-D163EB56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CF2E-6B4C-4418-B4E1-553BDBD7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F9C0-E5AF-41F3-AD28-F18C33F2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A367-F8AD-4BB7-9227-D3CF431B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1C9B-A625-4CD9-86EF-A878F0C0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8AD6E-9196-4296-BE16-25CDE201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5658F-00B5-4F49-875C-18517E10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B7B6E-3335-4FBB-9EE9-064FCF18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6E2B3-DA66-4CAE-B81F-E9E9A2D8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E1FFC-ABCB-4000-95B4-2E0FF240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9DC8-93C2-41B2-962B-410F73A9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A3DE6-1373-4A85-98CD-F6734225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26F4D-DFFA-4D47-A758-2DC17A2C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9B51E-955E-4665-99D5-54A808E4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96890-D55F-4747-9F5F-1E9E94B7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CB450-AD48-479D-848C-9B8B5331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E1E52-83D7-48B6-8047-910DD21E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9123D-FC3E-4574-A46C-63B05227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66998-AA23-4553-9728-B622A65D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69CF3-87E1-4C2F-BC6D-17FC739F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F1B3D-E23B-4B70-B0AE-3EC8C1B8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0382-16D9-432E-8417-8140A902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8F723-3D7F-4B26-894C-68C13396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AEF0D-5BFA-4B53-B8B6-A3810775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2BD40-087E-40B1-9C12-B097E6F0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E25F0-B9D8-4B7B-9360-7133125E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B6519-13D2-4247-BA43-C2CE0D2D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E16FC-2F44-47DE-9AAE-054AF634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237BB-EBB8-431B-9F54-E87F14EC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26A21-ACC0-4627-80A7-0E277816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2B491-B5B2-4C3C-BADD-814A2918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937F5-B43F-420F-A68B-1FFC45DD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9815-0708-452F-AC80-50757AA9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6A33E-0D9D-4CA6-8775-5247BD33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E94C1-85B0-4C86-AC94-7DBB4F69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D9783-CCE4-4C8E-9FF5-9295D0BA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84559-8991-4839-BBA7-C1409DD8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EA5FE-0048-4F6C-B625-FD1B06ED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B6F5A-C05E-4345-88A3-F453B563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ECF56-878D-440B-A4A2-9E7B7613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4A4DA-C0C7-48D2-B872-FC348261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27832-A411-4727-B370-8CA168A6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87B2B-8375-4246-85A6-DB2018E8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E071-5701-4B9B-9DBC-2EBBDAA9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D6F91-57A7-4268-9F83-5E9822CC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1796F-38F6-4EFD-8849-4D149D30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C9C58-710E-460F-84CC-2899F7D0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B7704-2261-469C-A82A-C686A2DC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403FE-63A0-4DF5-9C5B-A77BB521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0F137-32D7-46AA-86B3-87EB10E6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00B48-DED0-413A-827C-F87B0D62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75D3E-F248-4192-94A5-F122B83A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DC3C9-A2B8-4542-88E8-3C2815F6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C6066-69C9-40E1-8739-31C5ED57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FB3D-66B9-4160-9BEA-DD91BBCD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050A8-DC40-4308-B990-89DB18BF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72741-D619-4043-9EEB-3797CF11D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EBA60-1268-4ED6-A5CE-51E207F6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F8340-BFFE-449F-9EF2-D65CFB2F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02C05-ECBD-4127-AE84-8A1DEE7E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6C74E-C6F1-4C42-B958-B802CAA0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C6A02-A2EB-4407-8B9C-7BEFD092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0B8E0-F407-4A37-ADAB-F82C08B2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43AFE-044D-4385-BBE7-D9FB6DF7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EE432-80D3-4200-9F12-8CB4D27E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860A-26AE-4CD2-837D-69D61627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5D49E-3E47-42B8-A36F-F517C171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F59BE-F19B-4F4C-823F-9409984C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34B37-6F90-4EEC-8B0C-B590F40B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D973B-027B-4983-90BE-4E7BB2BE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9A1DC-134F-4C4A-8C86-B9787B23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83B69-7464-4885-B39C-3CDDB7E3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9C37C-8C9F-4340-AEC7-1E2DB8BD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C8CFD-5FE5-430E-B2EF-8EB08F68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573C1-7567-4C73-8D09-6E320268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B4E8D-E7DA-47A7-9967-6E65E488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B186-92A7-453F-B9D2-927927F5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19635-F970-42F8-BC5C-82E4A5BB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8F24D-581E-402A-86E0-630B9AE8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D70B4-8005-4F53-BC1B-2B492297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D7691-6ADF-4F0A-A978-43094DBE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BE733-6F53-4FEE-A98F-E4B52228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162CF-81D1-457C-8D8C-BB0801EC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E0E2E-9019-455D-8622-12EA65D2A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67CB9A-FAE7-4C83-970E-477A6220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17307-2FAE-4477-BA05-04900D9B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027BA-2A3D-4EE5-A5EA-4CBAE8F4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B329-9C51-470F-AB09-F6FC181E56B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147E-8EB5-466D-8A32-2685CCE5ED6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E950-F4CE-425D-A014-FD0DC766D9C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19E1-69F8-4DC0-BF70-656CAD3A7BB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DDA1-7F09-4A83-BE4C-B8684B70BF2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CFFE-1B03-4020-8C22-86F220F5588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A190-D2AE-4036-99D9-DD54E9C3530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1308-AD06-4CDE-86B0-97BA767A4C6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E1ED-5FB3-4A9F-81AF-B76623EBB57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68A8-7350-4E63-AFE4-B5A15F06977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7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어디에 가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디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를 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한국말을 공부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슬리퍼리록 대학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사를 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을 타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청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다나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디에 가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시내에 갑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다나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시내에서 무엇을 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친구를 만납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시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ownt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친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fri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만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ere; inte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디에 갑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어디에서 일하십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병원이 어디에 있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o ~, at ~; postposition denoting time or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10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시에 학교에 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일요일에도 회사에 갑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내일 미국에 갑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at ~; postposition denoting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교실에서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을 시장에서 샀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여자는 은행에서 일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부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usan (Pusan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병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hospit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우체국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ost offi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학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극장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hea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일하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wor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다방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offee shop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장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청역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he city hall st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은행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식당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하숙집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oarding hou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식사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ea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도서관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librar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백화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department sto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과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frui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학원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institut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 갑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미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부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 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어디에 가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에 갑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중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병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체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숙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에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집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식사를 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극장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를 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서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을 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백화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을 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12T14:35:59Z</dcterms:modified>
  <cp:revision>97</cp:revision>
  <dc:subject/>
  <dc:title>KOREAN LANGUAGE</dc:title>
</cp:coreProperties>
</file>